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F22-7165-4636-AD57-C49267B6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97F-E1B8-433F-A5A9-EBDC55B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7F3-D4D7-4B59-B1CB-9C2BD674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8DE-92BA-4B80-A03F-9B3A1049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1BB-D96F-4DB4-ABC1-82ED0506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FD8D-4A54-4C86-9FBA-FA44FC8B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14C-38D2-4629-903E-E6870189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2F9B-4958-4E3D-86E8-411D5C3E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54A-1DFC-447F-AC38-0A29CCF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9C0-244F-417D-994D-E4E3D06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C17B-3E1E-4DBF-B95E-204C71C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83F-5573-4FF0-BFCE-E027C4F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6105-4CA3-429B-9D00-6BF3227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F2D-4199-4124-9879-1CC7979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9E7B-03EF-42D5-8EF4-3D23779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571D-0A73-4E6F-8F7A-33255415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4D33-456E-44A7-B4DF-30CBA645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C4E5-5E40-4119-A83E-776A0089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ECDE-7740-46BD-8C21-4C6BD1B1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B1F3-E5B2-4851-ABD5-9CB68951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BA9F-FF9C-467B-BC80-D91B8D40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C0E6-0573-4C28-9B05-79B32D0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858-CC7B-4FAA-9802-BD866506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0868-1F24-471A-A4D7-DCD18AB2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FF55-4E3A-4A7A-A8C9-202F263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3476-2A06-4261-82F0-1B5FF37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BB2A-DF0E-4918-A621-B23EDDF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E104-8EED-4696-8101-AB287C40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7F66-E299-4183-B16E-19C2EBF4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B049-F9D2-4BE0-AA6E-2B5F3F52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F7F5-341B-4ACB-A00D-B7249415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C83B-7DBA-4259-8C90-040B930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9CD6-6276-41F4-8EC2-A930BD1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DF7-B8FE-4161-B32D-27FE632B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4653-76EB-429C-9C95-6701098D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5B7D-9D41-4A7F-860C-EEAFAB8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C3D2-0DA6-4A24-ADBA-10749EEF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3C67-F57A-476D-B883-FDC7DBB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C6CA-769D-4EF5-8BBE-27C4A98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EDC9-8C7E-4DF4-B5A9-C3557EDE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E715-3383-4F8C-A631-2E89198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8CA3-1BE0-4FC0-99F1-43E60FED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FB03-4960-44B6-9F3A-A1BBCA4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8AA-FA55-4438-A9A1-3286E31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EA0-7F6C-4CC8-80CD-B54B28B0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C40-F59A-447F-B54A-6BBE2BB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DA6-44E0-4155-9548-51900290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8E7-A5E9-4A34-ABD3-6B8B6EFA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B31-00F0-4A0B-AF4B-FE765DE91B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41AB-67ED-4167-AE41-B21DCD11D63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522-AAF7-4B4B-8E0F-C44FD8A6A4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61FF-3416-4C18-8DEA-20011E50B8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733560" y="3200400"/>
            <a:ext cx="2361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 D. Rober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Diffusion Process for V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3733920" y="1981080"/>
            <a:ext cx="1676160" cy="1143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0" name="Straight Arrow Connector 5"/>
          <p:cNvCxnSpPr>
            <a:stCxn id="199" idx="2"/>
          </p:cNvCxnSpPr>
          <p:nvPr/>
        </p:nvCxnSpPr>
        <p:spPr>
          <a:xfrm flipH="1">
            <a:off x="1676160" y="2551680"/>
            <a:ext cx="2057760" cy="5720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1" name="Rectangle 7"/>
          <p:cNvSpPr/>
          <p:nvPr/>
        </p:nvSpPr>
        <p:spPr>
          <a:xfrm>
            <a:off x="457200" y="2895480"/>
            <a:ext cx="12193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Rounded Rectangle 10"/>
          <p:cNvSpPr/>
          <p:nvPr/>
        </p:nvSpPr>
        <p:spPr>
          <a:xfrm>
            <a:off x="457200" y="480060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own Arrow 11"/>
          <p:cNvSpPr/>
          <p:nvPr/>
        </p:nvSpPr>
        <p:spPr>
          <a:xfrm>
            <a:off x="609480" y="38098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14"/>
          <p:cNvCxnSpPr/>
          <p:nvPr/>
        </p:nvCxnSpPr>
        <p:spPr>
          <a:xfrm flipV="1">
            <a:off x="1371240" y="4343040"/>
            <a:ext cx="686520" cy="534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5" name="Isosceles Triangle 15"/>
          <p:cNvSpPr/>
          <p:nvPr/>
        </p:nvSpPr>
        <p:spPr>
          <a:xfrm>
            <a:off x="1676520" y="3048120"/>
            <a:ext cx="2590560" cy="1295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6" name="Straight Arrow Connector 17"/>
          <p:cNvCxnSpPr/>
          <p:nvPr/>
        </p:nvCxnSpPr>
        <p:spPr>
          <a:xfrm>
            <a:off x="1295280" y="5714640"/>
            <a:ext cx="53424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7" name="Isosceles Triangle 18"/>
          <p:cNvSpPr/>
          <p:nvPr/>
        </p:nvSpPr>
        <p:spPr>
          <a:xfrm>
            <a:off x="1371600" y="5410080"/>
            <a:ext cx="3429000" cy="9144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Videograp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Straight Arrow Connector 20"/>
          <p:cNvCxnSpPr>
            <a:stCxn id="202" idx="3"/>
          </p:cNvCxnSpPr>
          <p:nvPr/>
        </p:nvCxnSpPr>
        <p:spPr>
          <a:xfrm flipV="1">
            <a:off x="1676160" y="4952160"/>
            <a:ext cx="6102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9" name="Isosceles Triangle 21"/>
          <p:cNvSpPr/>
          <p:nvPr/>
        </p:nvSpPr>
        <p:spPr>
          <a:xfrm>
            <a:off x="1905120" y="4419720"/>
            <a:ext cx="2133360" cy="9144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4648320" y="4800600"/>
            <a:ext cx="14475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mmercializ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ight Arrow 23"/>
          <p:cNvSpPr/>
          <p:nvPr/>
        </p:nvSpPr>
        <p:spPr>
          <a:xfrm>
            <a:off x="6324480" y="5181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ie 24"/>
          <p:cNvSpPr/>
          <p:nvPr/>
        </p:nvSpPr>
        <p:spPr>
          <a:xfrm>
            <a:off x="7315200" y="4495680"/>
            <a:ext cx="1371600" cy="19051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cep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3" name="Straight Arrow Connector 26"/>
          <p:cNvCxnSpPr/>
          <p:nvPr/>
        </p:nvCxnSpPr>
        <p:spPr>
          <a:xfrm>
            <a:off x="2971440" y="3809880"/>
            <a:ext cx="1600920" cy="1372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4" name="Straight Arrow Connector 28"/>
          <p:cNvCxnSpPr>
            <a:stCxn id="209" idx="5"/>
            <a:endCxn id="210" idx="1"/>
          </p:cNvCxnSpPr>
          <p:nvPr/>
        </p:nvCxnSpPr>
        <p:spPr>
          <a:xfrm>
            <a:off x="3504960" y="4876920"/>
            <a:ext cx="1143720" cy="381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5" name="Straight Arrow Connector 30"/>
          <p:cNvCxnSpPr>
            <a:stCxn id="207" idx="5"/>
          </p:cNvCxnSpPr>
          <p:nvPr/>
        </p:nvCxnSpPr>
        <p:spPr>
          <a:xfrm flipV="1">
            <a:off x="3943440" y="5409720"/>
            <a:ext cx="62928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27:26Z</dcterms:created>
  <dc:creator>HP Authorized Customer</dc:creator>
  <dc:description/>
  <dc:language>en-US</dc:language>
  <cp:lastModifiedBy>HP Authorized Customer</cp:lastModifiedBy>
  <dcterms:modified xsi:type="dcterms:W3CDTF">2010-05-03T03:23:53Z</dcterms:modified>
  <cp:revision>6</cp:revision>
  <dc:subject/>
  <dc:title>Video on Demand</dc:title>
</cp:coreProperties>
</file>